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B11-6868-4133-8B7D-A5C73565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C99-3197-4C0D-9FE0-022AF368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5D3-BB85-4E8E-8A7A-C016757A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AE2-1DDE-49A2-BA35-405B35D7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2323-831B-43CA-8F24-43896652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22EA-5E00-41C0-9D39-780D7F95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3C44-2EBC-4F63-9DCC-2AF8B80A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0DC8-BB31-48D8-8A01-24F1810E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B944-1C83-4321-A6CE-27A218AC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2011-2E55-420B-A402-798CFC6C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1272-A0AA-42A0-932B-B3D9FA45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A62-2368-42C1-A3DF-D3C68BA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9B7D-21A0-4F7A-A9E0-EBE47964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AAEF-D47A-4A32-8872-41DE1CAD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EE02-2651-4685-93F6-053BE519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6511-D2CF-43A6-9D63-D83E3C37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28C3-A30B-4851-9F39-22D9BC31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ABB-3F4C-4CDB-825F-796467F2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1E8-A0EE-4C41-8283-9AAC9DD9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A65-B8CA-4A91-B17C-5289B5A6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438-BD9E-4663-9E2D-648D0163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112-F33E-4B60-B252-BF2FF590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D97-C8D2-48AA-92E8-3B10A77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E23-9118-4BAE-82A7-9A3C90AD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1C6A-8D8A-423C-8A9A-97B4CF3520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C3C6-43B4-4764-B16E-44B9171EB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ebra 2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ber 16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a system by the addition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a system by substitution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addition metho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ecessary, multiply one or both of the equations by a constant so that one of the variables can be eliminated by add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the equ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for the remaining var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itute the value found in step 3 into either of the equ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for the remaining variab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(3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 3/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 is (3, 3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f adding will not eliminate a variabl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you will need to multiply one or both equations by a const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(3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5y=1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(5x +2y=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0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0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1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58128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3) -5y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-5y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y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is (3,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substitution metho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ecessary, solve one of the original system for one of the vari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itute the expression obtained in step 1 into the other equation of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the equation found in step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itute the value found in step 3 into either equation and sol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3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= 2x 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x -3(2x-1) = 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x-6x+3 = 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x + 3 = 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x = 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= 3/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327672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2(3/2)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6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3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dered pair is (3/2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20:43:46Z</dcterms:created>
  <dc:creator>nuhs</dc:creator>
  <dc:description/>
  <dc:language>en-US</dc:language>
  <cp:lastModifiedBy>nuhs</cp:lastModifiedBy>
  <dcterms:modified xsi:type="dcterms:W3CDTF">2007-10-16T20:01:10Z</dcterms:modified>
  <cp:revision>9</cp:revision>
  <dc:subject/>
  <dc:title>Algebra 2A</dc:title>
</cp:coreProperties>
</file>